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A9D8-8B62-4625-96D4-D58FD4F7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97C6-77FF-41E6-975C-66CCB66E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FE9F-1AFD-4E50-9AF7-28AE18AE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57AA-0817-4B86-8693-7016CC5C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1AD9-0148-48BF-8A0C-1197A365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5452-A16F-4175-B3AC-4D759B0E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A060-C9A6-4403-9BF2-BEA73B5A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8020-5F1C-42D6-8B4F-4B47AE84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E02B-861D-42D7-9DF8-BCBC61DB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A192-654A-475D-8956-F5E91354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78D7-904A-4A37-B18A-B3FBA4C2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8512-90E8-4288-A9FA-905E9BA8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AA26-251A-466A-8CD6-673FB36E49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ffff00"/>
                </a:solidFill>
                <a:latin typeface="Calibri"/>
              </a:rPr>
              <a:t>Historia powstania pralk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11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Firma Maytag wprowadza swój pierwszy model pralki z napędem elektrycznym – „The Swinging Wringer washer”. Model wyposażono w odłączaną wyżymarkę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USA niedaleko jeziora Michigan bracia Upton zakładają Upton Machine Company, firmę mającą produkować napędzane elektrycznie pralki. Z czasem firma zmieni nazwę na Whirlpool Corporation.</a:t>
            </a: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15 r.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 Maytag dostarcza na rynek pralkę „The Multi Motor washer” napędzaną silnikiem spalinowym przeznaczoną dla gospodarstw na terenach niezelektryfikowanych.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rynek trafiają pierwsze elektryczne suszarki do ubrań.</a:t>
            </a: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18 r.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 Rinso wynajduje sproszkowane detergenty do domowego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żytku. Pozwala to skuteczniej oddzielać brud bez konieczności szorowania/tarcia. Wynalazek przyczynia się do zaniku elektrycznych pralko-tar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20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Na rynek trafia pralka z komorą prania wykonaną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aluminium. Jest trwała i odporna na rdzę. Producent: Maytag</a:t>
            </a: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22 r. -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irma Maytag przedstawia „The Gyrafoam washer”, pierwszą pralkę z tzw. Agitatorem. Urządzenie zamiast mieszać ubrania w wodzie wymusza przepływ wody przez tkaninę. Umożliwia to pranie delikatnych tekstyliów/tkan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6093000"/>
            <a:ext cx="8064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53735"/>
                </a:solidFill>
                <a:latin typeface="Calibri"/>
              </a:rPr>
              <a:t>Pralka z 1924 r. napędzana silnikiem elektrycznym działająca na zasadzie próżniowej</a:t>
            </a:r>
            <a:r>
              <a:rPr b="0" lang="pl-PL" sz="18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203640" y="2727360"/>
            <a:ext cx="2232000" cy="3257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5877000"/>
            <a:ext cx="806436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953735"/>
                </a:solidFill>
                <a:latin typeface="Calibri"/>
              </a:rPr>
              <a:t>Pralka z 1927 r. firmy Beatty Brothers z tzw. agitatore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276720" y="620640"/>
            <a:ext cx="3066840" cy="4824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694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30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Producenci tworzą ulepszone wersje pralek oscylujących napędzanych ręcznie. Operator, naprzemiennie pchając lub ciągnąc dźwignię zamocowaną do naczynia, wprawiał w ruch znajdujące się w nim wodę i ubranie. W kołysaniu naczyniem pomagały, zamocowane do niego oraz konstrukcji ramy, sprężyny. Dodatkowo ruch wody wewnątrz naczynia wzmagały znajdujące się tam przegrody, które wymuszały przepływ wody po linii ósem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203640" y="3225960"/>
            <a:ext cx="2808360" cy="33112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ok. 1930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John W. Chamberlain z Bendix Aviation Corporation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struuje maszynę, która pierze, płucze i sama wypompowuje wodę z ubrań w jednym cyklu.</a:t>
            </a: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34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W Stanach Zjednoczonych powstała pierwsza pralka automatyczna. Posiadała możliwość zmiany długości czasu prania, płukania i odwirowania, a także regulację temperatury wody i szybkości obrotu bęb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4941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419640" y="2970360"/>
            <a:ext cx="3241440" cy="33382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37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W USA pod marką Bendix wprowadzono na rynek pierwszą programowaną pralkę automatyczną – samodzielnie wykonującą czynności: prania, płukania, odwirowania.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ządzenie pozwalało też na czasowe zaprogramowanie czynności, ustawienie temperatury wody czy szybkości obrotów. Ponieważ bęben nie miał amortyzacji zawieszenia, aby zapobiec jej przemieszczaniu, należało ją zamocować do podłog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000" y="5950080"/>
            <a:ext cx="821844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953735"/>
                </a:solidFill>
                <a:latin typeface="Calibri"/>
              </a:rPr>
              <a:t>W 1940 r. 60% z 25 milionów zelektryfikowanych gospodarstw w USA posiadało pralkę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700360" y="3068640"/>
            <a:ext cx="3676680" cy="2592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024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c00000"/>
                </a:solidFill>
                <a:latin typeface="Calibri"/>
              </a:rPr>
              <a:t>1947 r.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- Firma będąca poprzednikiem Whirlpool Corporation wprowadza na rynek pierwsze pralki automatyczne ładowane od góry tzw. „top-loading”.</a:t>
            </a:r>
            <a:br>
              <a:rPr sz="2200"/>
            </a:br>
            <a:r>
              <a:rPr b="0" lang="pl-PL" sz="2200" spc="-1" strike="noStrike">
                <a:solidFill>
                  <a:srgbClr val="c00000"/>
                </a:solidFill>
                <a:latin typeface="Calibri"/>
              </a:rPr>
              <a:t>1949 r.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- W USA firma Maytag wprowadza na rynek pralkę automatyczną</a:t>
            </a:r>
            <a:br>
              <a:rPr sz="2200"/>
            </a:br>
            <a:r>
              <a:rPr b="0" lang="pl-PL" sz="2200" spc="-1" strike="noStrike">
                <a:solidFill>
                  <a:srgbClr val="c00000"/>
                </a:solidFill>
                <a:latin typeface="Calibri"/>
              </a:rPr>
              <a:t>1950 r.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- Firma Westinghouse prezentuje urządzenie umożliwiające zarówno pranie, jak i suszenie ubrań.</a:t>
            </a:r>
            <a:br>
              <a:rPr sz="2200"/>
            </a:br>
            <a:r>
              <a:rPr b="0" lang="pl-PL" sz="2200" spc="-1" strike="noStrike">
                <a:solidFill>
                  <a:srgbClr val="c00000"/>
                </a:solidFill>
                <a:latin typeface="Calibri"/>
              </a:rPr>
              <a:t> 1951 r.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- Pierwsze pralki automatyczne pojawiają się w Europ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000" y="6237000"/>
            <a:ext cx="821844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84807"/>
                </a:solidFill>
                <a:latin typeface="Calibri"/>
              </a:rPr>
              <a:t>Pralka z dodatkową funkcją suszark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059280" y="3141720"/>
            <a:ext cx="2840040" cy="29178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53735"/>
                </a:solidFill>
                <a:latin typeface="Calibri"/>
              </a:rPr>
              <a:t>Frania – elektryczna pralka wirnikowa, niezwykle popularna w Polsce od lat 6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25200" y="6308640"/>
            <a:ext cx="821844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53735"/>
                </a:solidFill>
                <a:latin typeface="Calibri"/>
              </a:rPr>
              <a:t>Polar PS 663 Bio „Superautomat” z 1986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3780000" y="260280"/>
            <a:ext cx="1728720" cy="2378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3419640" y="3573360"/>
            <a:ext cx="2681280" cy="23767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78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W firmie Miele powstaje pierwsza pralka sterowana mikroprocesorem.</a:t>
            </a: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2006 r.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 Firma Sanyo wprowadza na rynek pralkę „Aqua”. W pralce zastosowano m.in. proekologiczny system optymalizujący zużycie wody. Część wody po uzdatnieniu (oczyszczanie ozonem) jest wykorzystywana ponown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5640" y="5876640"/>
            <a:ext cx="72327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53735"/>
                </a:solidFill>
                <a:latin typeface="Calibri"/>
              </a:rPr>
              <a:t>Model AWD-AQ1 – Pralka do eliminowania zapachów i bakterii wykorzystuje ozon. Może zatem prać bez wod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3622680" cy="27370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Calibri"/>
              </a:rPr>
              <a:t>Pralk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sprzęt, który można znaleźć obecnie w każdym domu.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szczędza nam czas, zużycie wody i energię – tą z sieci i tą nasz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Symbol zastępczy zawartości 5" descr="pralka1.jpg"/>
          <p:cNvPicPr/>
          <p:nvPr/>
        </p:nvPicPr>
        <p:blipFill>
          <a:blip r:embed="rId1"/>
          <a:stretch/>
        </p:blipFill>
        <p:spPr>
          <a:xfrm>
            <a:off x="3132000" y="2060640"/>
            <a:ext cx="2965680" cy="4189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025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tarożytności ubrania prano poprzez uderzanie nimi o skały lub pocieranie ich np. szorstkim piaskiem. Oderwany w ten sposób brud następnie spłukiwano (wypłukiwano) z materiału w pobliskich strumieniach lub rzeka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2920" y="5157360"/>
            <a:ext cx="622476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53735"/>
                </a:solidFill>
                <a:latin typeface="Calibri"/>
              </a:rPr>
              <a:t>Prosty drewniany przyrząd do prania. Podczas prania należało nim pocierać wilgotny i namydlony materia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132000" y="2614680"/>
            <a:ext cx="3240360" cy="23479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2491920"/>
            <a:ext cx="814716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984807"/>
                </a:solidFill>
                <a:latin typeface="Calibri"/>
              </a:rPr>
              <a:t>            </a:t>
            </a:r>
            <a:r>
              <a:rPr b="0" lang="pl-PL" sz="1800" spc="-1" strike="noStrike">
                <a:solidFill>
                  <a:srgbClr val="984807"/>
                </a:solidFill>
                <a:latin typeface="Calibri"/>
              </a:rPr>
              <a:t>Tarka do prania ręcznego wykonana z aluminium.</a:t>
            </a:r>
            <a:br>
              <a:rPr sz="1800"/>
            </a:b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W 1851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– Amerykanin James King opatentował pierwszą pralkę używającą bębna - pierwszy model pralki nosił nazwę "MacAlpine". 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Jej działanie opierało się na wykorzystaniu pary, a zasada działania tej pralki znacznie odbiegała od naśladowania ręcznych czynnoś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340000" y="549360"/>
            <a:ext cx="4114800" cy="1930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858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Hamilton Smith opatentował pralkę rotacyjną.</a:t>
            </a: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861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 po raz pierwszy do pralki dodano wyżymaczk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ę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5516280"/>
            <a:ext cx="7858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53735"/>
                </a:solidFill>
                <a:latin typeface="Calibri"/>
              </a:rPr>
              <a:t>Pralka typu dolly z drewnianym zbiornikiem i kołem zamachowy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2683080" cy="36226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874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William Blackstone zbudował pierwszą pralkę przeznaczoną do pomocy gospodyni domowej. Urządzenie powstało jako prezent urodzinowy dla jego żony. Pralka wykonana była z drewna. Pranie odbywało się w wodzie z rozpuszczonym mydłem. Drewniane elementy wewnątrz bębna uderzały brudne ubrania.</a:t>
            </a: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 1885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Mechanizacja technik prania poprzez tarcie/szorowanie. Powstają proste urządzenia przenośne.</a:t>
            </a: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892 r.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 George T. Sampson uzyskuje amerykański patent na suszarkę do materiału. Urządzenie wykorzystywało wentylator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ciepło z pieca.</a:t>
            </a: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07 r.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 Frederick Louis Maytag rozpoczyna działalność w branży urządzeń do prania odzieży, a Maytag Corporation zaczyna produkcję pralek z drewnianym bębnem z napędzanym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ęcznie kołem zamachowy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23640" y="4724280"/>
            <a:ext cx="856908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53735"/>
                </a:solidFill>
                <a:latin typeface="Calibri"/>
              </a:rPr>
              <a:t>Tarka do prania – przykład wczesnej mechanizacji procesu prania. Ubranie umieszczano pomiędzy naczyniem, a ramką wewnątrz naczynia. Następnie poruszanie ramką powodowało, że materiał ocierał się o dwie sąsiadujące żebrowane powierzchnie. Brak konieczności zanurzania dłoni w wodzie dawał dodatkową korzyść – można było prać w znacznie wyższej temperaturz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3705120" cy="39610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351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08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Firma Hurley Machine Company z Chicago wprowadza na rynek pierwszą pralkę z napędem elektrycznym o nazwie Thor. Urządzenie skonstruował Alva J. Fis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23640" y="6021360"/>
            <a:ext cx="83516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53735"/>
                </a:solidFill>
                <a:latin typeface="Calibri"/>
              </a:rPr>
              <a:t>Pierwsza pralka elektryczna miała zbiornik bębnowy z  galwanizowanym naczyniem</a:t>
            </a:r>
            <a:r>
              <a:rPr b="0" lang="pl-PL" sz="18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348000" y="1916280"/>
            <a:ext cx="2535120" cy="39002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09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Amerykańska firma Maytag wprowadza na rynek swoją pierwszą pralkę napędzaną silnikiem – „The Hired Girl washer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000" y="580536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53735"/>
                </a:solidFill>
                <a:latin typeface="Calibri"/>
              </a:rPr>
              <a:t>Pod koniec lat 90. XIX w. producenci wytwarzali też urządzenia do prania wyposażone w kilka dzwonów zasysających połączonych przekładniami z dźwigni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348000" y="1484280"/>
            <a:ext cx="2909880" cy="41990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7:36:54Z</dcterms:created>
  <dc:creator>Dorota</dc:creator>
  <dc:description/>
  <dc:language>en-US</dc:language>
  <cp:lastModifiedBy>Dorota</cp:lastModifiedBy>
  <dcterms:modified xsi:type="dcterms:W3CDTF">2013-08-19T08:49:24Z</dcterms:modified>
  <cp:revision>24</cp:revision>
  <dc:subject/>
  <dc:title>HISTORIA POWSTANIA PRALKI ROZBUDOWANA</dc:title>
</cp:coreProperties>
</file>